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45D-848F-4723-BFBE-9E6155F1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EC9-F3C8-48C7-B63E-6CCCC23E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B05-07DA-426B-948C-78AAE7AA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F43-2347-4F06-9284-CAD63FF3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D80-BD99-4E0E-81FA-FBC17F4D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AB4-F340-49A2-A5F7-89A97759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B4F-D588-4743-8A8D-FF6EDB73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06E-5347-4DF8-A22D-135A6327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D39-E857-4A12-917E-9988EC3D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EF68-6F7B-4C04-9CCF-9DEE134F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A05-09D8-4DE0-852E-F2F092EF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ADA-721C-4BA2-AB4B-F26D693D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8221-41FD-4A61-85D6-61DCB850A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3360"/>
            <a:ext cx="4535640" cy="6021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yu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jud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rieg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peli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do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 poco probable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reconocen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¿Cómo puedes pensar que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 acepto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360" y="333360"/>
            <a:ext cx="3961080" cy="60217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h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ubt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n’t accept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’s not likely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njec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an you think that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d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y don’t recognise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557360"/>
            <a:ext cx="84978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match key items of voca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read about opinions to do with drug u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give your own opinions on drug u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revise using the subjunctive to give negative opinions of doub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do these phrases have in comm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557360"/>
            <a:ext cx="84978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o creo que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Dudo que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o pienso que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o acepto que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¿cómo puedes pensar que…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Es imposible que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Es poco probable que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o reconocen que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838080"/>
            <a:ext cx="64008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ESENT SUBJU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AR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·        Take the first person of the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·        Remove –o and add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838080"/>
            <a:ext cx="64008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RESENT SUBJU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ER / -IR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ke the first person of the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move –o and add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á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685800"/>
            <a:ext cx="67816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RESENT SUBJU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RREGU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b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é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ccents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person si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é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ccents all but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person plu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b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b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43000" y="685800"/>
            <a:ext cx="67816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RESENT SUBJU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DICAL CHANG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 Change happens as in the presen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 VOL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ue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uel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ue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lv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lv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uelv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685800"/>
            <a:ext cx="67816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RESENT SUBJU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DICAL CHANG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ND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ERSON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…….ir verbs   O      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 DORMI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e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e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e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m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m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er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685800"/>
            <a:ext cx="67816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RESENT SUBJU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DICAL CHANG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……ir verbs    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 SENTI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en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tá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en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9:51:37Z</dcterms:created>
  <dc:creator>Owner1</dc:creator>
  <dc:description/>
  <dc:language>en-US</dc:language>
  <cp:lastModifiedBy>Owner1</cp:lastModifiedBy>
  <dcterms:modified xsi:type="dcterms:W3CDTF">2008-11-07T09:51:59Z</dcterms:modified>
  <cp:revision>1</cp:revision>
  <dc:subject/>
  <dc:title>Slide 1</dc:title>
</cp:coreProperties>
</file>